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F5E03-3993-45B1-9F12-2D72FA435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31F32-7B3D-4936-BE58-D83BA29CC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AE9DF-BAB1-48D2-9479-CB1C656FE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FFD26-C389-4FC7-8EE3-B42932D37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9A6BB-FE9B-41AA-898F-CD353159A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2F076-55AF-4638-9E13-0F743388F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37DCA-4A80-48F7-AEDA-6D783DC99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7C098-10C8-4CAA-B705-C638A8093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F2AAB-4E1F-46CB-9213-AF6FDA7BC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AED33-AC58-4B4D-85C5-FCF98CEB3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EFA0B-61DA-47F3-9647-9C49BBE98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04AEA-821A-4729-AAC5-E44D52425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37D99-ACCF-433C-8828-8148945557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Bookman Old Style"/>
              </a:rPr>
              <a:t>SUSTAINABLE TUNA FISH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Bookman Old Style"/>
              </a:rPr>
              <a:t>TROUBLE BREW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tion in the Markets -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GOs are campaigning aggressively in the marketpl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ppealing to retailers and consum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can expect more of the s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tion in the Markets -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ertification is a growth industr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t least six certification organis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can expect more – a sure sign that their services are in dem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tion in the Markets -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permarkets are listening and acting e.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ainsbury &amp; Waitrose in the U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al Mart in the U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major Brands have heard the mess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tion in the Markets -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sumers are being given negative messages about the health of tuna stock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f the only messages are negative many will stop buy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tuna market will decl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USTAINABILITY IS A MAJOR ISSUE FOR THE NEXT DECADE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F WE DON’T ACT NOW OTHERS WILL ACT FOR 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619280" y="760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servation Measures We Ne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pacity Limitation – well capacity or vessel numb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ffective enforcement of the V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tal closure o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loating object closure, with 100% observer coverage WITH NO EXEMP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easures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ll vessels in the Commission Area to regis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ll vessels to operate Commission VMS at all tim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ome Thoughts on FA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ery fuel efficient way of catching – much ‘greener’ than school fish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oats cannot simply switch back to school fish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schools are not the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nless all FO’s are lifted, they will keep aggregat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ore on FA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r some vessels a FAD closure would be the same as total clos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ith fuel over $1,000/tonne some boats won’t go fish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reduction of catch and supply to processors could be substanti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INAL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f we do not agree effective conservation measures soon, tuna markets may go into decline as consumers “turn off” tun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at would have dire consequences for every one of the fishery’s participa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eclining Resour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TCHES OF YELLOWFIN AND BIGEYE ARE DECLINING IN EVERY OCE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57240" y="69840"/>
          <a:ext cx="9015480" cy="6443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240" y="69840"/>
                    <a:ext cx="9015480" cy="644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84240" y="84240"/>
          <a:ext cx="9016920" cy="6443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240" y="84240"/>
                    <a:ext cx="9016920" cy="644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1440" y="303120"/>
          <a:ext cx="9139320" cy="6005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0" y="303120"/>
                    <a:ext cx="9139320" cy="600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0" y="84240"/>
          <a:ext cx="9172440" cy="6468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84240"/>
                    <a:ext cx="9172440" cy="646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orld Wide Probl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IGEYE &amp; YELLOWFIN ARE CONSIDERED TO BE EITHER FULLY OR OVER EXPLOITED IN EVERY OCE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FMOS: POOR REPUTATION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NABLE TO AGREE LONG TERM CONSERVATION MEAS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NABLE TO ENFORCE WHAT MEASURES THEY DO ENA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CISIONS TAKEN BY CONSENSUS – LOWEST COMMON DENOMINA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ut NGOs Have Taken No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jor wildlife/environmental NGOs are focusing more attention on tuna fisher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cus not only on sustainabilit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lso on equity &amp; returns to resource own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-catch and discard issu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10:08:06Z</dcterms:created>
  <dc:creator>Tri-Marine International Pte Ltd</dc:creator>
  <dc:description/>
  <dc:language>en-US</dc:language>
  <cp:lastModifiedBy>Tri-Marine International Pte Ltd</cp:lastModifiedBy>
  <dcterms:modified xsi:type="dcterms:W3CDTF">2008-03-31T01:22:24Z</dcterms:modified>
  <cp:revision>14</cp:revision>
  <dc:subject/>
  <dc:title>SUSTAINABLE TUNA FISHING</dc:title>
</cp:coreProperties>
</file>